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A01-7929-4819-BE9B-5DBE8B125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land ist für ihr Bier bekan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utschland stellt viel Getreide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 Regionen reprasentieren weizen und zuckerbee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 Regionen reprasentieren kartoffeln, gerste, und rog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u Regionen reprasentieren  die Weinb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kel Regionen reprasentieren Gar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b Regionen reprasentieren Land fur Ku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gibt mehr Rosa als diese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PR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hat viele Fe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de Region in Deutschland hat ein anderes F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Landwirtschaft ist wichtig fur die Wirtschaft in Deutsch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hinen helfen mit der Arbeit in den Feld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Z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kann Wein wegen den Flusse produ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s Landwirtschaft macht die Wirtschaft star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hat Hugel und Berge, aber Florida nic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e viel von Deutschland ist Landwirtsch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of Germany’s land does agriculture take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nimmt mehr als die Halfte des Lan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e viele Betriebe sind Familienunternehm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w many farms are family busines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rundneunzig Prozent der Betriebe sind Familenunterneh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ie wird die Regierung der Landwirtschaft helf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governement help the agri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finanzielle Unterstutz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arum brauchen die Familien Untenehmen Unterstutzu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subsid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ige Flachen in Deutschalnd ist sch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chmal Kuhe essen zu viel Gr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8A0D-0C77-42C6-9041-49C74DC6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ist wichtig nach Deutsch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e machen Ern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h sind auf das Aucker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5F71-1DBC-4998-9DE9-51FD12FF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st die Landwirtschaft in Deutschland machte v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ier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sche Landwirtsch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rstwirtsch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inproduk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6F4-56E5-44B1-B85E-95ECF294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rste Landwirtschaftsprodu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l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hweinefle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indflei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flü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tre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artoffe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er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oh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Zuckerrü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30D-5EA9-450A-8D41-9FE5B201D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 Rhine und Main sind im nordwestlichen Teil von Deutsch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76E-141F-4DF2-87BB-18D51DF7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des Gebiet hat verschiedene Fel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ördliches Deutschland hat flache Lä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1886-3305-43D2-A2E4-70AF82B0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wirtschaft Produckte werden in viele Lander exporti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üdliches und westliches Deutschland hat Weinber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90A-6D5A-43EF-9532-55276885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kauft eine Menge Bana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verkauft eine Menge Kor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schland produziert eine Menge von Getre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hilft der Landwirtschaft in viele w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finanzielle Unterstutz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Regierung gibt Geld fur Landwirtshaft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Geld wird verwendet, um benachteilig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095B-384F-49D5-9164-C9D66BBE2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199-0CFD-4A5D-A6BC-7EE8F783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188-E0A0-431B-A13D-6CCC4C39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F0-099A-4B27-81F8-A0E34C23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D00-3C7A-421C-B931-BDAA438C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239-1509-43C0-B250-BF895AFA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BB7-A2C9-441C-9D78-1BCCFE40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CC2-9008-4720-A139-8E1152D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F11-B48C-43DA-B3C7-DCBF463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C32-075D-4292-9A2F-549A8B0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F4C-A21D-4248-824D-66A0BDC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0F-6C91-4162-A9FC-5C11A0D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66D-9620-4663-BF50-6F1D57A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C08-6369-472C-B564-E9748EED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griculture In Deutschla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helsea Gobou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 Number: 001090-0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5280" y="990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ndwirtscha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l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ly produces about DM84 billion worth of go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s goods for around DM52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ver 80 percent of land for agriculture and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argest producer of milk, pork and rape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cond largest producer of cereals and potatoes, sugar beet and b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world-renowned for its be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Map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Germany Location Map"/>
          <p:cNvPicPr/>
          <p:nvPr/>
        </p:nvPicPr>
        <p:blipFill>
          <a:blip r:embed="rId1"/>
          <a:stretch/>
        </p:blipFill>
        <p:spPr>
          <a:xfrm>
            <a:off x="2438280" y="609480"/>
            <a:ext cx="435636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griculture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ion of crops, livestock, or poultry by cultivating land, feeding, and bree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kes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tschland's Economy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tle St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iculture and Wine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ef Agricultural Produ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124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b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ar b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181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regions wine, fruits, and vegetables play an important 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Wine by the Rhine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rman Wine y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114733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Containing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781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s vary from region to reg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ern Germany (flat terrain) and eastern regions produce; cereals and sugar b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y terrain and mountainous land are used to produce; vegetables, milk, pork, or bee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grapesonthewine"/>
          <p:cNvPicPr/>
          <p:nvPr/>
        </p:nvPicPr>
        <p:blipFill>
          <a:blip r:embed="rId1"/>
          <a:stretch/>
        </p:blipFill>
        <p:spPr>
          <a:xfrm>
            <a:off x="6705720" y="1600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e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uit orchards and vegetable farms surround the large c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ern and western German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river valle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long the Rhine and the Main, are covered with viney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 and sugar beets are produced in northern Germ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Germany is used for agriculture and fore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e Fact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Products are exported to many countr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 buys a quantity of banan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 produces and sells grain produ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al Interven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deral and state governments, in their turn, provided financial assistance for agricultural development, land consolidation, village renewal, and construction of country roa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unds were available for disadvantaged areas where agriculture was an important economic and social factor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38:57Z</dcterms:created>
  <dc:creator>SCSadmin</dc:creator>
  <dc:description/>
  <dc:language>en-US</dc:language>
  <cp:lastModifiedBy>SCSadmin</cp:lastModifiedBy>
  <dcterms:modified xsi:type="dcterms:W3CDTF">2012-03-19T14:00:56Z</dcterms:modified>
  <cp:revision>18</cp:revision>
  <dc:subject/>
  <dc:title>Agriculture In Deutschland </dc:title>
</cp:coreProperties>
</file>